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C3E2-F960-49D3-865A-FAD7EC8E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C0CB-7FAF-4FF9-B767-1BC14C7F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F90B-BE25-40EE-AEC0-8127608B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8092-3A2C-459D-B1A9-73346353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8CFB-A7F4-41F3-B5F0-C2369906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B156-7153-48C8-B658-E80F0EA5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4948-57D4-4158-8733-7D8E8612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53E6-42DC-4AB3-B516-FAEFCD71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6692-2F1D-4022-9183-C94E6790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21FD-0813-4F16-8950-5EE61263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B3E-4105-43C0-A830-FC930AD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41C8-670E-49FA-B8CD-1D5C255B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0594-9BC1-4928-903E-5FDE8B1D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BD5C-35FA-49EE-B3A1-D69DE37B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03AF-9F10-42E9-B432-0ED4FE2B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6E76-5DE7-43E0-A2BC-2379DFA0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45D8-0A37-464E-87B9-3D037D8F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40FF-3912-4A4E-95B2-55EEF29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AA5E-45CF-4C55-9EEF-07EE83AE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8EC8-1CE3-4BED-9376-D9F9B6AF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9281-970A-40E4-9194-94CEAC32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A374-0D28-4729-8D1E-4CAE94FC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FA3C-D97B-4BEE-90B5-2C2B4019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A80B-A7F3-466D-8278-41212F1B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D1A3-DA17-4778-8581-C2737F0A0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8C28-D500-48D7-A773-E822E5FD5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71800" y="53337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To Speak Properly During Group Discussion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4249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4495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Rockwell Extra Bold"/>
              </a:rPr>
              <a:t>Group Discu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1752480" cy="1612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discussion is the first criteria for screening the candidates for face-to-face interview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91540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roup Discussion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hing Group Discussion is used for mass elimination! And second thing group discussion selection criteria’s are based on actual company requir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66880" y="4114800"/>
            <a:ext cx="251460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’s and Don’ts of Group discussi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eye contact while sp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the G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others to spe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k clear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o bring the discussion on tr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attit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k sensi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carefully to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go into much deta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dre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skills are judged in group discu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29640" y="5648400"/>
            <a:ext cx="1314360" cy="1209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31040" y="1721160"/>
            <a:ext cx="584388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good you are at communication with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you behave and interact with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open minded are y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listening ski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you put forward your vie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leadership and decision making sk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nalysis skill and subject knowled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solving and critical thinking ski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ttitude and confid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0:20:23Z</dcterms:created>
  <dc:creator/>
  <dc:description/>
  <dc:language>en-US</dc:language>
  <cp:lastModifiedBy>system3</cp:lastModifiedBy>
  <dcterms:modified xsi:type="dcterms:W3CDTF">2009-08-25T09:00:35Z</dcterms:modified>
  <cp:revision>0</cp:revision>
  <dc:subject/>
  <dc:title>Group Discussions </dc:title>
</cp:coreProperties>
</file>